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222A-B99D-4039-9F94-1DC29B605CD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math.rice.edu/~lanius/fractals" TargetMode="External"/><Relationship Id="rId2" Type="http://schemas.openxmlformats.org/officeDocument/2006/relationships/hyperlink" Target="http://math.rice.edu/~lanius/fractals" TargetMode="External"/><Relationship Id="rId3" Type="http://schemas.openxmlformats.org/officeDocument/2006/relationships/slide" Target="../slides/slide11.xml"/><Relationship Id="rId4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math.rice.edu/~lanius/fractals" TargetMode="External"/><Relationship Id="rId2" Type="http://schemas.openxmlformats.org/officeDocument/2006/relationships/hyperlink" Target="http://math.rice.edu/~lanius/fractals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math.rice.edu/~lanius/fractals" TargetMode="External"/><Relationship Id="rId2" Type="http://schemas.openxmlformats.org/officeDocument/2006/relationships/hyperlink" Target="http://math.rice.edu/~lanius/fractals" TargetMode="External"/><Relationship Id="rId3" Type="http://schemas.openxmlformats.org/officeDocument/2006/relationships/slide" Target="../slides/slide13.xml"/><Relationship Id="rId4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ook at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he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triangle you mad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in Step One. What fraction of the triangle did you NOT shad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hat fraction of the triangle in Step Two is NOT shad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hat fraction did you NOT shade in the Step Three triangl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o you see a pattern here? Use the pattern to predict the fraction of the triangle you would NOT shade in the Step Four Triangle. Confirm your prediction and expl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HALLENGE: Develop a formula so that you could calculate the fraction of the area which is NOT shaded for any ste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ite the fractions in the above questions in order from least to greatest. Write a statement about how their order connects to the shading out proc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ind another interesting pattern in the fractal called the Sierpinski Triangle. Write a paragraph descibing this patter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ook at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he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triangle you mad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in Step One. What fraction of the triangle did you NOT shad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hat fraction of the triangle in Step Two is NOT shad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hat fraction did you NOT shade in the Step Three triangl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o you see a pattern here? Use the pattern to predict the fraction of the triangle you would NOT shade in the Step Four Triangle. Confirm your prediction and expl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HALLENGE: Develop a formula so that you could calculate the fraction of the area which is NOT shaded for any ste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ite the fractions in the above questions in order from least to greatest. Write a statement about how their order connects to the shading out proc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ind another interesting pattern in the fractal called the Sierpinski Triangle. Write a paragraph descibing this patter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ook at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he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triangle you mad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in Step One. What fraction of the triangle did you NOT shad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hat fraction of the triangle in Step Two is NOT shad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hat fraction did you NOT shade in the Step Three triangl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o you see a pattern here? Use the pattern to predict the fraction of the triangle you would NOT shade in the Step Four Triangle. Confirm your prediction and expl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HALLENGE: Develop a formula so that you could calculate the fraction of the area which is NOT shaded for any ste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ite the fractions in the above questions in order from least to greatest. Write a statement about how their order connects to the shading out proc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ind another interesting pattern in the fractal called the Sierpinski Triangle. Write a paragraph descibing this patter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ook at the triangle you made in Step One. What fraction of the triangle did you NOT shad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hat fraction of the triangle in Step Two is NOT shad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hat fraction did you NOT shade in the Step Three triangl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o you see a pattern here? Use the pattern to predict the fraction of the triangle you would NOT shade in the Step Four Triangle. Confirm your prediction and expl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HALLENGE: Develop a formula so that you could calculate the fraction of the area which is NOT shaded for any ste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ite the fractions in the above questions in order from least to greatest. Write a statement about how their order connects to the shading out proc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ind another interesting pattern in the fractal called the Sierpinski Triangle. Write a paragraph descibing this patter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ook at the triangle you made in Step One. What fraction of the triangle did you NOT shad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hat fraction of the triangle in Step Two is NOT shad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hat fraction did you NOT shade in the Step Three triangl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o you see a pattern here? Use the pattern to predict the fraction of the triangle you would NOT shade in the Step Four Triangle. Confirm your prediction and expl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HALLENGE: Develop a formula so that you could calculate the fraction of the area which is NOT shaded for any ste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ite the fractions in the above questions in order from least to greatest. Write a statement about how their order connects to the shading out proc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ind another interesting pattern in the fractal called the Sierpinski Triangle. Write a paragraph descibing this patter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7B5-D979-4A49-90EF-7F00DBDC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7D7-4484-42B5-8395-DB9E26E6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C808-6EAD-4B10-A23E-9C7E7FF7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D68-0D45-4ADC-A05C-EA702A9E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F4D-52AF-4256-A3BB-F7AB06D1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381-49DA-4678-AF2D-3AA7B81B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78F-B6DC-4843-BCB2-5C7E1568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1E8-F098-4B19-9D0D-C2AB70EC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F6A-75FC-4CC7-BD26-636BC04D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C51-BA13-4D6B-9B63-22EDC8B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0C1-E43E-4744-BD43-CECEE81A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0BC-3676-4C8B-9CF5-5B778D37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1D66-2B01-45E2-8BF8-3AA294FE6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FRAC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’uso didattico del materiale virtuale presente in rete: un caso i frat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Adalberto Codetta Raiteri,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CSA Vercelli, Promozione successo form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FRAC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ituazione re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ituazione schematizz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809880" cy="271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57800" y="1069920"/>
            <a:ext cx="3657600" cy="264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4184640"/>
            <a:ext cx="3733920" cy="26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410080" y="4167360"/>
            <a:ext cx="3733920" cy="2690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301160" y="103176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6400" y="42670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50520" y="42670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ituazione schematizz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15364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esto del problem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algebr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914400"/>
            <a:ext cx="9144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 primo passo quale frazione di triangolo non è color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 secondo passo quale frazione di triangolo non è color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 terzo passo quale frazione di triangolo non è color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 individuato un percorso ? Sei in grado di predire la frazione del triangolo che non sarà colorata nel nel quarto pa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a a scrivere una formula che consenta di calcolare la la frazione dell’area del triangolo che non è colo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58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odello matema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(3/4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 (3/4) a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esto del problem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geometr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14400"/>
            <a:ext cx="9144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80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odello matema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militu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utosomigl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mensione fratta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914400"/>
            <a:ext cx="5410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a la figura del passo 2 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36576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esto del problem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procedur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14400"/>
            <a:ext cx="9144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4191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odello matema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1814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lgorit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lgoritmo iter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lgoritmo ricorsiv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914400"/>
            <a:ext cx="5410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vi la procedura con cui si costruiscono la seconda e terza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2362320" cy="1684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2266920" cy="1636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553080" y="1828800"/>
            <a:ext cx="23148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ituazione schematizz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2468520" cy="2811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454120" cy="2765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645240" y="762120"/>
            <a:ext cx="2498760" cy="2857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4054320"/>
            <a:ext cx="2468520" cy="2803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3276720" y="4152960"/>
            <a:ext cx="2415960" cy="2705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6689880" y="4092480"/>
            <a:ext cx="24541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FELC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ituazione re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90720" y="0"/>
          <a:ext cx="7010280" cy="676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7010280" cy="67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715000" y="2362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www.codetta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6668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ppa di riferime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324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Elaborato durante il corso di aggiornamento nazionale: “Matematica, Informatica, Statistica”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organizzato dal MPI a Città di Castello nel 1978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360" y="-3313080"/>
            <a:ext cx="564228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47920" y="457200"/>
          <a:ext cx="7696080" cy="593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57200"/>
                    <a:ext cx="7696080" cy="59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0" y="1071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ituazione re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' più conveniente fare acquisti nel piccolo negozio del quartiere o nel lontano centro commercial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09480"/>
            <a:ext cx="304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mplif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533520"/>
            <a:ext cx="3886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no aperto un centro commerciale nel nostro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0384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tuazione schematizz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tuazione schematizz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2057400"/>
            <a:ext cx="30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nali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0"/>
            <a:ext cx="3581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' più conveniente fare acquisti nel piccolo negozio del quartiere o nel lontano centro commerciale?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50292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2743200"/>
            <a:ext cx="81532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studenti, alternando lavori di gruppo, con compiti a casa, sono invitati a selezionare, tra le molte possibili, per esempio le seguenti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 distanza della propria casa dal grande cen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l conto pagato al grande cen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l tempo speso nell'acquisto presso il centro commer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l tempo speso nell'acquisto presso il piccolo nego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e spese di viaggio (solo per il centro commerci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l valore del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 differenza percentuale tra i prezzi dei due negoz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esto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50292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990720"/>
            <a:ext cx="8229600" cy="23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famiglia deve decidere se effettuare la spesa settimanale presso i negozi del quartiere o nel centro commerciale conoscen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e spese di viaggio (solo per il centro commerciale)                    2 E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l tempo necessario per la spesa nel centro commerciale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l tempo necessario per la spesa nei piccoli negozi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l valore orario del tempo del clien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E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 differenza percentuale dei prezz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va il l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esa min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scegliere il supermerc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3429000"/>
            <a:ext cx="3810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ello matemat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962520"/>
            <a:ext cx="861048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x+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2 x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x            scontrino della spesa nel centro commer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costo complessivo della spesa al centro commer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costo complessivo della spesa ai negozi del quart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525780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5791320"/>
            <a:ext cx="355680" cy="152280"/>
          </a:xfrm>
          <a:prstGeom prst="rightArrow">
            <a:avLst>
              <a:gd name="adj1" fmla="val 50000"/>
              <a:gd name="adj2" fmla="val 583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6324480"/>
            <a:ext cx="355680" cy="152640"/>
          </a:xfrm>
          <a:prstGeom prst="rightArrow">
            <a:avLst>
              <a:gd name="adj1" fmla="val 50000"/>
              <a:gd name="adj2" fmla="val 582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733560"/>
            <a:ext cx="1447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 = 35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= 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50292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47920" y="457200"/>
          <a:ext cx="7696080" cy="593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57200"/>
                    <a:ext cx="7696080" cy="59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luzione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0292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tuazione re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pre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uovi testi di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0292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85800"/>
            <a:ext cx="91440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persona deve decidere se è più conveniente andare a fare la spesa in un in un centro commerciale o nei negozi del suo quartiere. Per trovare il prezzo minimo che rende conveniente il centro commerciale egli cono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e spese di viaggio (solo per il centro commerciale)  g E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differenza di tempo per la spesa nei due casi          t 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l valore del tempo del cliente                                     c Euro/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fferenza percentuale dei prezzi                            p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+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52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276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52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34290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457200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Direttore di un centro commerciale potrebbe essere molto interessato alla nostra formula. Scegliendo dei valori costanti p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t,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egn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funzione d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reste piegar il grafico al Direttor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’ possibile applicare il modello a oggetti virtual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50292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52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3276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52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923760"/>
          <a:ext cx="7696080" cy="593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23760"/>
                    <a:ext cx="7696080" cy="59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0T09:29:52Z</dcterms:created>
  <dc:creator> </dc:creator>
  <dc:description/>
  <dc:language>en-US</dc:language>
  <cp:lastModifiedBy> </cp:lastModifiedBy>
  <dcterms:modified xsi:type="dcterms:W3CDTF">2003-05-15T00:19:06Z</dcterms:modified>
  <cp:revision>10</cp:revision>
  <dc:subject/>
  <dc:title>titolo</dc:title>
</cp:coreProperties>
</file>